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789-9CA7-4644-B358-149BBA85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FFB-B58B-4CA7-9FE3-65E71BD3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5A26C-37BC-42F7-B1E0-D70FA017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598CA-B5C4-49FF-A6F4-5967E024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0AB16-4476-4FC8-B9DA-9509BD90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B15E8-BBE9-4E45-818C-F01742B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F2DEA-C9E3-483E-9EEB-FAD00D5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8244-C05C-4BA7-8A8B-A1E1C93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44B6D-1240-4CD9-A15A-A00F6C6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C2E09-2921-458E-BE9A-5A4958F6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58D6A-6754-4C87-9669-71532FBD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ECE1C-C124-4826-9F9B-DD2F695B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C53-298F-47F7-9DE7-EDC96CED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4D95-DADE-4319-AC1B-F26C799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11D7E-5130-4E2A-81FA-2E0792B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3CC66-D2A3-4772-AD6E-8F0F845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799ED-255A-440D-A3AF-3C025CA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5EA07-3859-4AEE-8328-DD6635F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49298-0E5E-434D-B8BD-7004AA5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BAB4F-E733-4CFF-B2D5-BBBE137B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D8BD3-A717-4C68-9D8E-AF655D8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C7752-2D47-4E03-A757-01EB5AF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CED4B-F103-41E4-B466-2C80E4AC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6A2-28B8-4BED-9E7C-8605B4E6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3D01C-D163-438C-958A-8A57392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FE6A5-9D6B-4088-AD09-5303C39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AC78B-9357-4664-918C-1E36072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7772F-6D2D-44F3-813B-D51601B8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A8CB-8906-4E61-BEFF-74EA549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F269-2ED1-4A16-BDDB-046D65F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B66DA-9907-46A7-B0AD-C4AA5F1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5370-12FF-48DF-BFAF-18A7FA4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B0E62-E599-4B2F-BC52-43EB88E6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25150-5906-448A-B8F3-1A2DA8C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44BD-9754-4CBB-988B-8611D6B5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D356A-6D6F-47B8-9908-1B38839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F1BDA-DF73-4AA5-9F88-0801943C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8035A-7B25-4E38-8E6C-338D53A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F4219-67C2-4F70-9B76-3CAF6CF6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B503B-556C-44DF-BD6F-00B5228B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552DB-616C-4D10-A3C2-EE657D24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99C16-8528-4082-B811-4B32B4A5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5E144-5F4C-4925-B3CE-0E334EF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CBB5-1C37-475E-9D97-1057C7ED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5EE36-777F-4B2B-9F34-3A92C50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F26-1CBF-464C-8621-B299933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C4C9C-6A84-4593-B137-58DF748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2F567-5AC0-42EF-BAFF-65DAE4F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8820C-B503-4EA2-AFE2-15A8FE8F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54422-0BC2-4891-BE80-2A9CBE1D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C9E67-C28B-4BCD-B301-C2F6FBC1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30DF8-4330-429C-BF3B-D3BC0F2C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803E5-2AB6-49BE-9A77-4F617CC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91A25-6EE6-4C8E-845A-0524321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12599-931A-42F2-A535-2B436C93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89CB2-3CBA-4A64-9ECE-880FB0F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18A-2285-435B-863C-DB18392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22256-5A56-4E36-9D5C-A0D9A70D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2A49B-BE9C-4BF1-98BC-A828993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D9F8D-A951-4D21-BE3C-17B7E5D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434D3-73DD-404B-ACE1-C473DCA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CF0FE-1739-46E9-BF56-F556D114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16DD0-8451-4292-B848-AB94139B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5D373-5B90-4CFC-864C-A681C7A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CA22D-1386-4E50-B068-7CCDD1D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FA1B7-12C5-4AA6-BFB3-D8A15C74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63D39-C0BF-4C53-AEAD-31A1973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970-F617-4882-AF46-A49F511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DC8F3-AF12-4ACB-8EE4-B84F45D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58B26-7642-4CF3-ACDA-20C7A4FA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387F1-105E-4F55-A48B-7696C4B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FAA62-93C4-4199-A9A7-6E54857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CCF7A-26FF-45BA-ACDB-C6AC95BD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887A1-7484-45F8-A4D1-B79F67B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A5E7C-686E-4DE8-B684-4C8A06D2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6503E-C140-4402-8DA4-C954A525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F7F7E-5EAD-4913-90D8-AFB0B529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691CC-12AB-448B-AEBE-BB74E517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CBBB-DA2C-4E74-86DC-CBDD3EC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6E0B5-DBF7-466B-A4DB-62181FDF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75700-5729-4C21-A390-A46B5B7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E5896-4AFD-46A3-A16D-19723B0A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C1A24-1061-4EE3-B9FA-C59797E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7580F-457C-44DD-B0D7-A0BB8F7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544EF-0F1F-46E8-BFA7-DD57F29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7CA94-E650-4E72-8B1B-F538D75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76268-E089-4A15-98B1-0484F5F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635E7-E0FF-4281-A997-E700EA4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7164C-A3D4-4DD9-8E09-334EBFC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7AE-47D1-47D4-8415-F5AC4F6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367A9-8817-4857-A254-7DF0EAEE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5303D-0C5A-4C8B-ABB3-312F5741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9A206-F2C3-4F24-8FD3-96B24292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C543A-7309-42A6-8730-73042EC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6A82E-420B-4427-8B21-2B02FBE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1B0D7-5CC5-4BBB-8431-160E0AA9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1CD6B-177A-4153-81B7-C421A95A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2FEDA-16BD-42F7-8AF1-4823826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E4F07-2E7C-4073-B884-C41663C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7AB57-08D6-44E3-B4B7-55B8B53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96DE-C50A-4F16-B392-C719F90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48175-F95F-4BE8-821C-0AD47D8C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EB23D-67B0-4D8D-A464-AAF65E7A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1461D-CF49-49B9-A4A5-461DC5D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D0BDB-A7EB-4D8B-900B-B6353FB4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6E20E-ABE7-4805-8705-84C0508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DE75E-E6E0-43CA-AD5B-EC372CF7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3C44B-3AB0-4D51-8AF2-404F0FD8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1F00F-FD64-408B-BE8C-AA03310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BAB57-63EB-464F-8D98-EBCAB3A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A4121-817D-4F05-8507-9CBD250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DC7-133D-4239-BE76-6BDBD8E2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2663-FB1C-4AA2-9021-E6604CF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9387D-7DAC-4656-9F65-F09EA8A4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67D04-E932-4BE6-BE13-D8A3286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B2631-5F04-4C4A-BF5B-CB3D78CA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CC824-62FB-409F-8085-3DB66141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CE9FE-48A4-48F8-BD04-00FA777A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DF866-0872-4442-9523-A0A26237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40EFB-F097-4158-86B0-AEF59E7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90456-DDAB-49FA-9751-CBC4BEB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62A33-F210-4FE3-8459-3356AF1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3354E-48BA-4ABE-8787-16FE8B8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26E0-2736-4A40-B02D-A099583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C4F8D-8329-48C8-9D6A-8BFF3EAA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3CE2D-CF09-4851-9E10-DEA4EE1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6E9DB-C7AE-4E8C-A848-B1F4660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2ECB5-FEDF-47AF-92BB-D49DDD6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467E3-CFA5-4FEB-B88B-D0EA3DD8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CC41A-4A14-44B7-9E1A-913177AB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3DEC5-D3DA-4B01-A43A-7B7E4DE6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D19FB-7EAD-4EE9-93E7-0CB766BF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3BA49-7035-493A-B0D3-39E4316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0052D-52A9-44E7-B0C3-3F674B4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69D3-D56E-4016-AE35-F172F3B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8D7A3-DDD8-4DEA-85BC-3C35DC2C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308BA-CA21-4D6A-A1C5-49BCABA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36693-56A0-4E59-8ED4-3338783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B9543-68E3-4A1E-BEA4-1D4E164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56341-DE21-4279-97C2-49F522E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6D629-1BB5-4B6E-94DB-1E396FD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10A66-E697-4718-861A-F983C16C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5C7DC-E2D5-43F8-9DEF-318011A4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88666-EE9D-4120-80A6-D4B9676D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4C6001-66F5-449B-9C96-0C997F00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C130-6744-48BE-BA33-B923E349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BD6C9-B63A-4984-B562-AD2D909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CBFC7-2CBC-4673-8082-87D7E00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DE871-38C4-473A-845B-63A2C05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C2F44-0AEE-49E3-B60E-9CEC33C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47CF8-4C56-422F-9731-A602DB5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88511-D788-4976-BC17-E62D2E2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C4CD7-DCC3-4639-A305-8B5B746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4B05E-77F5-42D9-99B8-75937D4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82579-6C29-43FC-9F91-A73BCED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37D62-6FE0-4E9A-B584-C5F6CB9A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86AF-8587-4190-962A-792E879D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5BB7E-745E-4BA4-98B7-99FFBE4F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72CB5-76E2-498D-BD67-39A889C5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B7A0D-1ADA-46C4-B3CA-0439B981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631A1-04B1-4B99-B297-EA8A4A7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1BB57-FB89-4DFE-B011-BBDC290C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4761C-7A91-48B1-BAD1-8EA99BD9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75A67-6E82-4828-A5E5-7B9D638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31A8A-0717-4FA2-ACA0-A9D0AE7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3B072-79E9-46CF-B7ED-8737EC81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7B726-55E0-4013-A29D-55686CF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FEB3-0F50-44CB-B25D-1163AE52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061FF-5FA8-4091-839A-DEE39B08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13595-876E-4FC3-986F-803D2446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CB5D2-D342-49E3-A106-DD6D79DA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6E2A-760B-4001-9397-4BAF9C0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4293-96B4-4492-B99E-3F3AE23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81EB-6B24-4895-82AA-78D8D3A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F2DF-7B73-49C4-85A7-92BF9B3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45A-08A6-4246-A713-58ADE847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F144-FE38-4631-A6E1-65A38E7A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F959-1A91-44E5-A40D-BA64639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B0D1-D464-4372-971F-71E7A4B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0BD5-A9FB-47D2-8795-70444384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25D1-235E-4AD3-9AB5-0BC8DE44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73BB-B5C9-4FF1-ADD8-CFF69D30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3B33-0D32-4C6C-BAF2-CDD9311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33F3-0CDB-4E15-AD47-F27EA9E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0DC5-4AE7-49C3-A7E2-EDD3C71D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29D4-38A1-4F6A-BB71-5BF5C417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7E2-A64D-4FDA-A402-CB00B2D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F5CC-9955-4647-9125-E53F6123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A03D-974D-4B60-8926-56868347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F312-FF91-4E76-A7A1-FA25AE4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16CD-1611-4DCE-9A37-311BC16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510B-E8E1-426A-BCDC-8383628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186D-CD3E-4723-A493-DF6A58FE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7E3A-B83C-482A-B853-E1F9E06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FD17-68BB-45B7-8768-5E4DA72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F6C2-BD5B-4881-9428-142A2F0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A322-8341-45C8-BEFD-8E62E921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2DC-D3BE-4C56-98CE-BE4CFEB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B747-D4DF-4AB0-B2F5-FC2A2E5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E89D0-D01A-4669-A73E-D00C5DA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0813-FC9B-4375-BE0F-11A5439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0558-ADDE-48D8-9681-AF8F3C61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2B33F-BB43-423E-8F11-20BC27EF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AD3F-2F9E-40AF-A684-C6E0043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C094-E0B3-4F32-9000-2D41652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5EDA-BB70-45AD-B0FE-0ADBD1D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13FE-B622-4A86-A65E-9CD5247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6E23E-E726-4EBD-92EE-5EC81E15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00B-D5CE-4803-8CE8-CA7CBF2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38E6-65B7-4738-B0C2-88C4EE2F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EA64A-AA3C-4A42-A91F-0327ED10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6AEB-FFFA-4755-9E83-0CE6BFF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C9847-B01A-4CCB-AB66-2F1E21E4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E8D2A-BD34-44CC-BD81-4FC853F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40BC-3B92-485F-AF1D-E703AF17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F5B3-698B-4737-A80E-5FA8F85B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C088-1026-4441-975D-D68A7A3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8B22-B44F-4C2B-B0EC-B50A2BA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2B70-8D42-4720-9BFA-CEE73FC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181-7D1C-42F3-BDC8-9CABBB26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B0177-2B99-4354-9285-A4119906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EC02-D7E5-4B1F-BA52-69D102C9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645C-640A-4357-BB70-78F59615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FD1D-5392-40A1-9E23-0BA8F838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1ED0-C68D-41D1-9349-B35F861B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E2CE-B5FE-4704-A0CD-FD0BACB4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CEFF-3AFC-4F1D-8D01-62B628EA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092E-B5D5-4BA7-9565-E4A95B2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981E6-8723-49C3-B51E-6CF8F41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E41E-2CD8-491D-896B-60F27E8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3A5-C784-489E-85F3-00C2ABE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CB20-70FF-4C33-8BA4-7E3EA45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7E61-4DD8-429A-AA94-4792D5A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B938-4149-4BEF-A1EB-1A705B3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BEB7-E2A9-4B44-BC98-444A10EB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A9E7-3EB9-4541-BD0C-23160F9D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F90B-5042-4B29-B91C-B15FEABB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8594-94A6-4A9B-B929-84D8D9F8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881F-195A-4C45-A739-E82B178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A59F-3A8F-471F-9B55-EA3B17F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47CB2-5196-40E8-80E1-EFB3A43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9CF-6AFD-429C-8126-C4C9B36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C240-3831-4826-9E7D-6985195F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A4CA-5779-4B9A-A4C7-B903A2F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1C33-191E-4AA4-A65C-CA59EB1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95D8D-9BC4-4269-84EC-2C40283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34F7-CD99-45B4-989C-92058A23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3C9D-7CD3-4EFE-944C-96921813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8C5F-C531-496C-B62C-46151CE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EC803-26A6-48CB-9CC5-9455756C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A0CCB-7185-418A-9C89-4A138D86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C2D1A-ABBE-46B5-A82A-0E0C480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5AC-A462-4DDA-9B4E-E72A2786C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1AD1-ACFF-454F-8B7D-7EB04C9DA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3F7-6DCB-4756-B0DB-FA21EF037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B3E-1700-4F2B-A1A5-14A6CC166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A59-8A7F-4EFB-A097-BDB74BE21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605-E64E-4FE7-AC47-52FC305C2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C08-7A25-4819-90E5-3C271E84D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BB1-69FF-48D6-B213-EA785F20A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7102-B60C-4ED1-A281-65DBB0848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95A-FDE1-4A40-8313-09E1C4E8D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241-55DD-49B5-B6DD-7CED979E9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12F-85D5-4FE3-8DD2-226D4BA54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90C-62B0-4128-8EAD-24A38CC8B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9FCC-3160-49E2-AF60-C36617406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469-9D61-4968-B952-A0F1F7A1A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E49-9084-4EC3-B852-B220375C8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871-1954-4EBA-969F-E116C778D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5A2B-575D-4C29-A03C-65E034B81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F4B-28F1-41D4-8E86-7CD0786F07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08D5-78C6-4F8D-99CF-571257F96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9345-44AC-4A14-A4E1-27001B7ED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594C-2FFE-4D0F-A456-C225E8B6A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350-7A34-4871-BB28-78C540C4E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ADC4-9016-4FD3-8B31-0A33EE7CA6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3D3-B32F-4E4D-B16F-84EA85960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76ED-F5AC-435F-A1AD-892100AB2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384B-6FC9-4E50-BA45-D5C6799C9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C19-B65D-4C58-883F-3B263DF2E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CE7-C02A-44B9-9D01-C201A4A65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2DD-E136-4325-803B-30D940669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CF4-7C99-4E49-A76F-4075B1EA0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153-D92B-4AB6-841C-0510D1D95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4CB-ED9B-4249-96CE-F33119331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6F9-707B-4C0F-9133-28A8D7817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7337-AC84-48F2-87DE-4656D8517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114-261F-4D45-A666-7E99AB90B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8B3D-30AA-4812-A0A3-C82F1BC71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FC5-A101-42DC-969F-01A062FA2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CEB-E36A-4511-AE4A-4182ADE7C1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EA29-C60D-42D7-9FD2-26E326CED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176560" y="3048120"/>
            <a:ext cx="47908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79873" descr=""/>
          <p:cNvPicPr/>
          <p:nvPr/>
        </p:nvPicPr>
        <p:blipFill>
          <a:blip r:embed="rId1"/>
          <a:stretch/>
        </p:blipFill>
        <p:spPr>
          <a:xfrm>
            <a:off x="485640" y="1125360"/>
            <a:ext cx="8048880" cy="292428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9874" descr=""/>
          <p:cNvPicPr/>
          <p:nvPr/>
        </p:nvPicPr>
        <p:blipFill>
          <a:blip r:embed="rId2"/>
          <a:stretch/>
        </p:blipFill>
        <p:spPr>
          <a:xfrm>
            <a:off x="981000" y="4156200"/>
            <a:ext cx="7477200" cy="971280"/>
          </a:xfrm>
          <a:prstGeom prst="rect">
            <a:avLst/>
          </a:prstGeom>
          <a:ln w="0">
            <a:noFill/>
          </a:ln>
        </p:spPr>
      </p:pic>
      <p:sp>
        <p:nvSpPr>
          <p:cNvPr id="1056" name="矩形 79875"/>
          <p:cNvSpPr/>
          <p:nvPr/>
        </p:nvSpPr>
        <p:spPr>
          <a:xfrm>
            <a:off x="6261120" y="4197240"/>
            <a:ext cx="75888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9876"/>
          <p:cNvSpPr/>
          <p:nvPr/>
        </p:nvSpPr>
        <p:spPr>
          <a:xfrm>
            <a:off x="4943520" y="4730760"/>
            <a:ext cx="7588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8849" descr=""/>
          <p:cNvPicPr/>
          <p:nvPr/>
        </p:nvPicPr>
        <p:blipFill>
          <a:blip r:embed="rId1"/>
          <a:stretch/>
        </p:blipFill>
        <p:spPr>
          <a:xfrm>
            <a:off x="557280" y="1690560"/>
            <a:ext cx="8029440" cy="347688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8850"/>
          <p:cNvSpPr/>
          <p:nvPr/>
        </p:nvSpPr>
        <p:spPr>
          <a:xfrm>
            <a:off x="6708600" y="4273560"/>
            <a:ext cx="14637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8908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62840" cy="239112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89090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152440" cy="35244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89091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6800760" cy="2914560"/>
          </a:xfrm>
          <a:prstGeom prst="rect">
            <a:avLst/>
          </a:prstGeom>
          <a:ln w="0">
            <a:noFill/>
          </a:ln>
        </p:spPr>
      </p:pic>
      <p:sp>
        <p:nvSpPr>
          <p:cNvPr id="1063" name="矩形 89092"/>
          <p:cNvSpPr/>
          <p:nvPr/>
        </p:nvSpPr>
        <p:spPr>
          <a:xfrm>
            <a:off x="743040" y="3216240"/>
            <a:ext cx="21002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9093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3695760" cy="260028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89094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3733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90113" descr=""/>
          <p:cNvPicPr/>
          <p:nvPr/>
        </p:nvPicPr>
        <p:blipFill>
          <a:blip r:embed="rId1"/>
          <a:stretch/>
        </p:blipFill>
        <p:spPr>
          <a:xfrm>
            <a:off x="552600" y="1181160"/>
            <a:ext cx="8038800" cy="4495680"/>
          </a:xfrm>
          <a:prstGeom prst="rect">
            <a:avLst/>
          </a:prstGeom>
          <a:ln w="0">
            <a:noFill/>
          </a:ln>
        </p:spPr>
      </p:pic>
      <p:sp>
        <p:nvSpPr>
          <p:cNvPr id="1067" name="矩形 90114"/>
          <p:cNvSpPr/>
          <p:nvPr/>
        </p:nvSpPr>
        <p:spPr>
          <a:xfrm>
            <a:off x="5796000" y="4724280"/>
            <a:ext cx="7570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91137" descr=""/>
          <p:cNvPicPr/>
          <p:nvPr/>
        </p:nvPicPr>
        <p:blipFill>
          <a:blip r:embed="rId1"/>
          <a:stretch/>
        </p:blipFill>
        <p:spPr>
          <a:xfrm>
            <a:off x="847800" y="1433520"/>
            <a:ext cx="7448400" cy="3990960"/>
          </a:xfrm>
          <a:prstGeom prst="rect">
            <a:avLst/>
          </a:prstGeom>
          <a:ln w="0">
            <a:noFill/>
          </a:ln>
        </p:spPr>
      </p:pic>
      <p:sp>
        <p:nvSpPr>
          <p:cNvPr id="1069" name="矩形 91138"/>
          <p:cNvSpPr/>
          <p:nvPr/>
        </p:nvSpPr>
        <p:spPr>
          <a:xfrm>
            <a:off x="5796000" y="1927080"/>
            <a:ext cx="25210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91139"/>
          <p:cNvSpPr/>
          <p:nvPr/>
        </p:nvSpPr>
        <p:spPr>
          <a:xfrm>
            <a:off x="1398600" y="2427120"/>
            <a:ext cx="41101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91140"/>
          <p:cNvSpPr/>
          <p:nvPr/>
        </p:nvSpPr>
        <p:spPr>
          <a:xfrm>
            <a:off x="1638360" y="3962520"/>
            <a:ext cx="10620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91141"/>
          <p:cNvSpPr/>
          <p:nvPr/>
        </p:nvSpPr>
        <p:spPr>
          <a:xfrm>
            <a:off x="6611760" y="4495680"/>
            <a:ext cx="10623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92161" descr=""/>
          <p:cNvPicPr/>
          <p:nvPr/>
        </p:nvPicPr>
        <p:blipFill>
          <a:blip r:embed="rId1"/>
          <a:stretch/>
        </p:blipFill>
        <p:spPr>
          <a:xfrm>
            <a:off x="576360" y="1814400"/>
            <a:ext cx="7991280" cy="3229200"/>
          </a:xfrm>
          <a:prstGeom prst="rect">
            <a:avLst/>
          </a:prstGeom>
          <a:ln w="0">
            <a:noFill/>
          </a:ln>
        </p:spPr>
      </p:pic>
      <p:sp>
        <p:nvSpPr>
          <p:cNvPr id="1074" name="矩形 92162"/>
          <p:cNvSpPr/>
          <p:nvPr/>
        </p:nvSpPr>
        <p:spPr>
          <a:xfrm>
            <a:off x="7740720" y="3500280"/>
            <a:ext cx="5047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867040" cy="6955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391600" cy="33811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5292720" y="1744560"/>
            <a:ext cx="576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6664320" y="2136600"/>
            <a:ext cx="576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4683240" y="2540160"/>
            <a:ext cx="5760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7045200" y="2517840"/>
            <a:ext cx="576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1590840" y="3313080"/>
            <a:ext cx="576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8177040" y="3324240"/>
            <a:ext cx="576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763560" y="3693960"/>
            <a:ext cx="10717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3419640" y="4108320"/>
            <a:ext cx="6588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1187280" y="4508640"/>
            <a:ext cx="108108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6948360" y="4508640"/>
            <a:ext cx="89388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7041" descr=""/>
          <p:cNvPicPr/>
          <p:nvPr/>
        </p:nvPicPr>
        <p:blipFill>
          <a:blip r:embed="rId1"/>
          <a:stretch/>
        </p:blipFill>
        <p:spPr>
          <a:xfrm>
            <a:off x="325440" y="716040"/>
            <a:ext cx="8410680" cy="602784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7043"/>
          <p:cNvSpPr/>
          <p:nvPr/>
        </p:nvSpPr>
        <p:spPr>
          <a:xfrm>
            <a:off x="2997360" y="2746440"/>
            <a:ext cx="78264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7044"/>
          <p:cNvSpPr/>
          <p:nvPr/>
        </p:nvSpPr>
        <p:spPr>
          <a:xfrm>
            <a:off x="4848120" y="5261040"/>
            <a:ext cx="145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7045"/>
          <p:cNvSpPr/>
          <p:nvPr/>
        </p:nvSpPr>
        <p:spPr>
          <a:xfrm>
            <a:off x="1060560" y="5664240"/>
            <a:ext cx="91908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7046"/>
          <p:cNvSpPr/>
          <p:nvPr/>
        </p:nvSpPr>
        <p:spPr>
          <a:xfrm>
            <a:off x="7124760" y="6045120"/>
            <a:ext cx="68724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7047"/>
          <p:cNvSpPr/>
          <p:nvPr/>
        </p:nvSpPr>
        <p:spPr>
          <a:xfrm>
            <a:off x="4805280" y="6426360"/>
            <a:ext cx="687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860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62800" cy="5486400"/>
          </a:xfrm>
          <a:prstGeom prst="rect">
            <a:avLst/>
          </a:prstGeom>
          <a:ln w="0">
            <a:noFill/>
          </a:ln>
        </p:spPr>
      </p:pic>
      <p:sp>
        <p:nvSpPr>
          <p:cNvPr id="1042" name="矩形 86018"/>
          <p:cNvSpPr/>
          <p:nvPr/>
        </p:nvSpPr>
        <p:spPr>
          <a:xfrm>
            <a:off x="8101080" y="1197000"/>
            <a:ext cx="43164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6019"/>
          <p:cNvSpPr/>
          <p:nvPr/>
        </p:nvSpPr>
        <p:spPr>
          <a:xfrm>
            <a:off x="8172360" y="4437000"/>
            <a:ext cx="4320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84993" descr=""/>
          <p:cNvPicPr/>
          <p:nvPr/>
        </p:nvPicPr>
        <p:blipFill>
          <a:blip r:embed="rId1"/>
          <a:stretch/>
        </p:blipFill>
        <p:spPr>
          <a:xfrm>
            <a:off x="528480" y="871560"/>
            <a:ext cx="8087040" cy="51148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84994"/>
          <p:cNvSpPr/>
          <p:nvPr/>
        </p:nvSpPr>
        <p:spPr>
          <a:xfrm>
            <a:off x="4716360" y="3068640"/>
            <a:ext cx="4320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3969" descr=""/>
          <p:cNvPicPr/>
          <p:nvPr/>
        </p:nvPicPr>
        <p:blipFill>
          <a:blip r:embed="rId1"/>
          <a:stretch/>
        </p:blipFill>
        <p:spPr>
          <a:xfrm>
            <a:off x="542880" y="1914480"/>
            <a:ext cx="8058240" cy="302904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3970"/>
          <p:cNvSpPr/>
          <p:nvPr/>
        </p:nvSpPr>
        <p:spPr>
          <a:xfrm>
            <a:off x="5380200" y="2514600"/>
            <a:ext cx="43164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82945" descr=""/>
          <p:cNvPicPr/>
          <p:nvPr/>
        </p:nvPicPr>
        <p:blipFill>
          <a:blip r:embed="rId1"/>
          <a:stretch/>
        </p:blipFill>
        <p:spPr>
          <a:xfrm>
            <a:off x="566640" y="1181160"/>
            <a:ext cx="8010720" cy="4495680"/>
          </a:xfrm>
          <a:prstGeom prst="rect">
            <a:avLst/>
          </a:prstGeom>
          <a:ln w="0">
            <a:noFill/>
          </a:ln>
        </p:spPr>
      </p:pic>
      <p:sp>
        <p:nvSpPr>
          <p:cNvPr id="1049" name="矩形 82946"/>
          <p:cNvSpPr/>
          <p:nvPr/>
        </p:nvSpPr>
        <p:spPr>
          <a:xfrm>
            <a:off x="7829640" y="1714680"/>
            <a:ext cx="4316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1921" descr=""/>
          <p:cNvPicPr/>
          <p:nvPr/>
        </p:nvPicPr>
        <p:blipFill>
          <a:blip r:embed="rId1"/>
          <a:stretch/>
        </p:blipFill>
        <p:spPr>
          <a:xfrm>
            <a:off x="566640" y="1900080"/>
            <a:ext cx="8010720" cy="305784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1922"/>
          <p:cNvSpPr/>
          <p:nvPr/>
        </p:nvSpPr>
        <p:spPr>
          <a:xfrm>
            <a:off x="7812000" y="2997360"/>
            <a:ext cx="43200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0897" descr=""/>
          <p:cNvPicPr/>
          <p:nvPr/>
        </p:nvPicPr>
        <p:blipFill>
          <a:blip r:embed="rId1"/>
          <a:stretch/>
        </p:blipFill>
        <p:spPr>
          <a:xfrm>
            <a:off x="561960" y="1095480"/>
            <a:ext cx="8020080" cy="46670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0898"/>
          <p:cNvSpPr/>
          <p:nvPr/>
        </p:nvSpPr>
        <p:spPr>
          <a:xfrm>
            <a:off x="7885080" y="2637000"/>
            <a:ext cx="43200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3:27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